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A151-D9CF-489D-8974-226DD52AFA20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D3AC-C9A9-4781-A92C-33333476BE9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1E9B-8263-49C0-A478-FFFCF2AD878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C14C-C3A3-441E-9B96-795658499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1514-B229-44E5-BD0D-C68B7A713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154C-C6A4-44C0-821E-E50F26F40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3AA2-9EEA-4B3F-A58A-ED565F003D7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A6B4-19C5-49D1-A5F8-DB5279B5429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39BD-4185-4EA1-8AF3-EB1B11C02BA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E40D-04FC-48FF-933E-C1500464383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BC16-813D-4799-B3C2-15493183E1A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E160-EB49-4A2C-A3F0-24DEDA4945B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833D-7B31-48C5-83A5-81EB2176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FF19-BC1D-4A7A-B902-A1F6560D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760B-9664-44A0-A5A5-1243D047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70E-B630-463D-B8CE-A9CBF013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EE32-1869-4FE7-8DDC-F4F67C77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275C-4CAB-48C5-9D98-6129AF19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C0F3-BC5C-40A3-B714-CA635E2F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8235-0135-4103-BB87-403BA0F0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23B3-A932-4227-B93F-451EC67E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C8D5-3579-4700-9BE3-D61AEE13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1D87-0677-4D64-995C-0D407BBD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397-0494-421F-B73C-021719D1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9CF1-7416-4D8F-BCDC-7A60F6AA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753D-E2BA-4383-9641-A9F4B1AC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0A52-022A-423F-8462-B9AE8C70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B7DA-71F4-4D40-A2C1-E8B85A6A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402A-2EA2-460B-99BF-2EFDD81B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040B-7DEE-44A9-9EBD-9331F291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AA0-8A86-4860-A53C-38CCC0A8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181-E861-43A4-8710-89E0AD5D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FAE4-4FD2-4737-89D5-E59C2004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8B6-C858-40D3-88A0-6EFBED83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8FE-1FCB-4755-88C1-E1E2BA43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0906-E063-4B22-859F-8AB4FDE8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3F2A-B70D-4A18-89C6-F8BFA8F80E5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D234-446F-4843-B8D8-4277F7BF868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8.-9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49:47Z</dcterms:modified>
  <cp:revision>343</cp:revision>
  <dc:subject/>
  <dc:title>Slide 1</dc:title>
</cp:coreProperties>
</file>